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CA1E4-5F39-45AD-9EE3-09FD999B0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D85DC-EC3E-41CB-8AF8-FB5B19350B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F08E0-6590-4025-9B2D-59032F10BA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76950-5949-46C4-AA49-CE0153F67A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71543-8846-46AB-B1B5-8642071B42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E8BA9-3BE8-4F55-9B67-718848C2C4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AB096-9257-47DD-9B3B-F93296F44E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7A81F-1AC7-42F3-83A4-4BA9B54B8A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84216-0DCD-4CFB-BD8F-84D6082052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2246B-791D-4E91-A642-43CB7590AD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7C9AE-FC56-42C4-834C-9250394CAA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18AA0-57EF-4518-AF75-28A49865F5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8F2-7E30-4EFA-8876-ED0898D2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63A-7C95-4557-A4A4-48175347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FDE-98ED-4B80-BFB6-D7416A59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1BA-0E4A-48AF-9101-AE96B17D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DEA-99CF-4D4F-A468-D0D65496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6A8-8954-4DD7-AB43-D7E226BD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AC5-4B99-49A7-9876-2BECA4D3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21B-70A6-4AEF-9E9E-600C9414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9EF5-CCC8-423E-9CF1-45655DF8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7ED-FDDC-4C62-95DC-6EE8FC2F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F3C-0162-4100-B876-2A52399F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110-DB62-44AC-94B7-968BE679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2BCD-6E31-4229-85DB-D2FB867E21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Controls, Forms, par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386080" y="5719680"/>
            <a:ext cx="456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t Visual Studio. Open the Lecture18/19 Web s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.  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3989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905120" y="1754280"/>
            <a:ext cx="54892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Inserting data, other featu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rcise: Improve the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/edit the page links in the nav bar in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n Offices.aspx page if you have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(h2) text on the pages created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t website.map to include new pages created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what the ‘breadcrumb’ navigation uses as its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ext to Default.aspx, your hom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‘Contact us’ link; it should send em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itles to the pages you created (&lt;title&gt;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some SQL by hand in the SQLDataSource wiz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e INSERT statement in CustomerOrders.aspx to confirm it does not have a primary key field, because the customer number is IDENTITY (auto-genera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351600" y="6324480"/>
            <a:ext cx="58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toolkit.ashr.transportation.org/NCHRP.aspx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ember to save pages in VSW after making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 on tab means the page has not been sa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ember to refresh the browser after you make a change to a Web page and are testing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rowser caches the page, and doesn’t know that you’ve changed it unless you force a refre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 up you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your Web site to another Web site on your computer periodic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NET (and JEE 6, LAMP) framework allows Web site construction from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connection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id, form, data, detail views for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ation controls (we didn’t cover th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vigation controls (SiteMapPath, oth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n and permission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JAX: Asynchronoux Javascript and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es the sorting in GridView, for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: machine-to-machine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this in the next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works for Web-database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.NET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, IIS, SQL Server, ASP.NET and C# or other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va Enterprise Edition (JEE 6 or, older, J2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S, Glassfish/Apache, any database, J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MP open source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ux, Apache, MySQL, 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can essentially interop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ices based on cost-speed-performance-security-stability tradeoff: Java -&gt; .NET -&gt; LA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have similar features, though details v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P.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pages are .aspx pages. They have 2 par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Aspx page, which is considered a Web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Microsoft ASP.NET server code that converts the controls on the .aspx page into XHTML that is sent back to a client (browser or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HTML code is generated dynamically based on database queries and programs that run on the server, such as optimization or design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ites are compiled to check for errors, just like software programs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bug-&gt; Build Web Sit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heck for err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t-driven model, as we’ve seen in our exerci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Inserted, DataUpdated, DataDeleted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 and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Web site Lecture18 in V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Customer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ORDER B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Advanced’ and generate edit, update, delete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s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edit,  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header &lt;h2&gt; at the top of the ContentPlaceHolder: “Custom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: edit, de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 delete a customer if they have an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not present in Grid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, insert,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Sales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ORDER BY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a second SqlDataSource into ContentPlaceHolder, below the fir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WHER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WHERE button: RepNbr, =, Control, GridView1, A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Advanced button: Generate INSERT,UPDATE,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FormView control o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second SqlDataSource as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&lt;h2&gt;, save and test in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7169760" y="6581880"/>
            <a:ext cx="19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o to next slide to fin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, delete: part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View doesn’t update when you change data. To make it do 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Design view, click on Form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Events button (lightning bolt) in Properties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click ItemInserted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following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View1.DataBi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double-click ItemDele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uble-click ItemUpda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 your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Edit data between two tab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3 SqlDataSources, 2 GridViews and Form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 and edit orders for a cust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use this to display and edit line items in an order in homework 7/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s to create CustomerOrders p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1: select * from custo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Gridview1 on data source 1: enable se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2: select * from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customer is selected value from Gridview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Gridview2 on data source 2: enable se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3: select * from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order is selected value from Gridview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d: Enable insert, delete, up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FormView1 on data sourc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GridView2.DataBind() to events as in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&lt;h2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447920" y="1065240"/>
            <a:ext cx="62910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Passing a WHERE parameter across p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get parameters for WHERE clause f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(e.g., GridVie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String (e.g., localhost/Order?ID=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ssion variables, profil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rci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SalesReps2.aspx with two hyper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1: SalesReps3.aspx?office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2: SalesReps3.aspx?office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SalesReps3.aspx. On 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qlDataSource1 WHERE RepOffice= QueryString 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GridView on SQLDataSource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n SalesReps2 in browser and click on 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use this to display your catalog in homework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06T02:50:22Z</cp:lastPrinted>
  <dcterms:modified xsi:type="dcterms:W3CDTF">2013-10-23T23:49:51Z</dcterms:modified>
  <cp:revision>217</cp:revision>
  <dc:subject/>
  <dc:title>1.264 Lecture 5</dc:title>
</cp:coreProperties>
</file>