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224D-735B-462B-B4FC-D17095970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4931-07CA-4AD4-B72C-8BC36C44C12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FCD5-357C-4F89-9438-C8138513023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6F74-676A-4DCA-90C5-E4BDE345657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08CA-5C48-4303-A177-669BC5CB91F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A799-FCDA-45E7-9217-6F0F69AD9C1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0660-771C-477C-9800-8B2B2EB7725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DF48-1844-4CB3-B72B-E5FF001F1AB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700E-9352-4876-9DDD-341A441062B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A18B-1F4B-47EA-A717-1AE4DF81EEA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96D1-D696-41F8-BCAB-75C72E8C342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AD1-99B8-4063-B4BE-67676F7C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0C7-DD8C-4391-8802-F1B60FCE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514-456C-4472-8DA7-4B7AE695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2B6-7FC8-4C9E-8FC5-8C13814E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673D-4D05-48CE-886D-81D9014B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03BD-2E94-4D43-AF57-E48E3C71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D3AF-9884-43C8-AA5C-87A7C06A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485-367E-4577-ABFA-DEC9D555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672-47C2-4409-B486-EB498D3A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D73-1EAA-4272-B3C2-4EED5099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5C4-8380-414C-9A54-4614AD34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7DC7-B6B9-474B-AD11-5F695B82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CE82-EDFA-42F5-A852-5C83524978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7240" y="5719680"/>
            <a:ext cx="50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1-3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Cloud ap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loud type, if any, would serve these ap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preproductio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, DB development tools (UML, Visual Studio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ch processes needing limited security (e.g., raw material manag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-the-shelf software (e.g., HR, CRM, collabor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co-dependent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with strict licensing and accountability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that require a lot of customization and flex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the following abbrev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aaS: infrastructure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aS: platform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aS: software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Cloud ap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loud type, if any, would serve these ap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preproduction system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aaS, P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, database development tools (UML…) softw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ch processes needing limited security (e.g., raw material management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aaS, P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-the-shelf software (e.g., HR, CRM, collaboration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co-dependent app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with strict licensing and accountability requiremen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that require a lot of customization and flexibil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, or perhaps I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cloud compu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it these two Web sites to get prices: (What kind of clou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ws.amazon.com/ec2/  Estimat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-deman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serve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 to “EC2 Pricing”, “AWS Simple Monthly Calculator”, US Ea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s/Web SQL Svr, 50% utilization, m3.xlarge (15 GB memory, 13 CPU units) 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On demand and then reserv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age: 1000GB standard, 100 iops, 100GB-mo snapsh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: 1,000GB/month inter-region in and o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rved: Medium util, 1 yr te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 windowsazure.com. Pricing, “Calculator”, “Shared” tab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ay as you go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12 month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site, 150GB database (less than Amazon), 1000GB data transf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ance at developers.google.com/appengin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 to “Quotas and pricing”-&gt;”Pric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ogle costs require more work to estimate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about comparing to running your own data cent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rdware, software, space, security, staff to manage, 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(November 2013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azon cos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demand: $488/month (was $831/month last year, for l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ed: $1100 + $286/month (was $1837 + $590/mont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cos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red: $355 PAYG, $275 12 mos (was $943/month last ye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og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the sam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ud computing growing exponenti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, flexibility, higher quality 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jor vendors offer cloud storage, computing, office applications, enterprise applications (CRM, SCM, ERP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 as a service (SaaS) is cloud compu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 are infrastructure and platform as a service (IaaS, Pa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 computing is heavily based on Service Oriented Architectures (SO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based on Web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based on HTTP and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exchange data between databases using 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and public clouds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prise servers and applications will contin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 architecture provides a cost estimate for the software and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ly required early in a project. Use first spiral to develo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timate staff and software costs from lecture 3,4 approac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examp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trip plan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real tim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fare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d vehicle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transit dispatch and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ehouse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ortation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ion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ll examples, architecture generates budge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: from function points, person mon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: from TPC and cloud computing estim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: from bandwidth and technology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tion of all system components (hardware, software, network) is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stem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early in system development or configurat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users, applications, system software, networks,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Web/app/db servers, networks, backu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s are complex and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is usually wrong on which estimates ar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is needed because you need 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dg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member the estimate convergence cur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much uncertainty in the final system hardware and software. We are only in spiral 1 st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 make a baseline (point) estimate, you have a lot of error and about a 50% chance of being too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’ve done everything else right but your system is slow because of inadequate hardware or telecom, it will be very frust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ustomer can’t tell why your system is slow. It may be bad database, bad/inefficient software implementation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one of the few problems that you can throw money at to sol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configurations are usually overb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mponents will be oversized, but you have a better chance of having enough capacity at the (unanticipated)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nd your entire budget, always, or use 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server (often virtualized) does just one t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server (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ogic (app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(database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understand and characterize its task this way. If a box handles many functions, sizing and managing it is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formance metric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ics (database server as an exam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roughput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/O operations/second, data transfer rate/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yste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throughput is low, more servers used than really nee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atenc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seek time (seconds), response time (secon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use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latency is high, users have slow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tilization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rcentage of data transfer rate, disk capacity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futur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avg utilization &gt; 60%, your systems will crawl on busy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verage server utilization  ~15-20% in traditional data cen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data transfer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Mbit/sec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12.50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 data transfer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10.00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m data transfer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6,000 bits/sec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0.007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comparable units when assessing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 bits (b)=  1 byte (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B may be 1,000,000 B or 1,024,000 B.  GB, TB discrepancies high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Database server cost, performa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 on to www.tpc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-&gt; TPC-C -&gt; Top 10 Price/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n “system” for top performing choice and open executive summary as pdf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ick the 2</a:t>
            </a:r>
            <a:r>
              <a:rPr b="1" lang="en-US" sz="2000" spc="-1" strike="noStrike" baseline="30000">
                <a:solidFill>
                  <a:srgbClr val="ff99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one: IB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configuration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Note the 50% discou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hardware cost? How many us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How many are there? Total storag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What does the software cost? (This one is unusual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 How much memo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nore the client hardware, which is just for the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performance (response ti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-&gt; TPC-H -&gt; Top 10 Price/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100GB results, same items as TPC-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units are queries per hou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 with TPC-C performance, which is transactions per minute. Why the differen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(November 2013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-C: IBM x36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cost?     ~$30,000.  Users: ~1,000,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          ~$26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~$25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disks are there?     115, holding 40,000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2 (8 c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uch memor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768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performance (response times) ~0.1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-H: Lenovo ThinkServer RD630 (100 GB databa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cost?    ~$13,500.   Users: a few (5-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         (not specified, but most of i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disks are there?     8, holding 2,400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2 (16 c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uch memor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64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response times: 0.3-12.7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: 420,000 QpH= 7,000 Q/min(H) vs 1,300,000 q/min(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 transaction is about 1,000,000 times the cost of a C trans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rs are faster/cheaper n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2000 TPC-C (price/performanc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,000 tpmC, $58/tpmC, 6,000 users, 5 seco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2013 TPC-C (price/performanc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,600,000 tpmC, $0.47/tpmC, 1,000,000 users, 0.1 seco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3,200,000 total transactions/minute in bench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800,000 total transactions/minute actual 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0% utilization max for good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system is less highly tuned than benchmark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a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ow for future 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x of transactions changing: more status/inquiry with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est performance 2013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,000,000 tpmC, $1/tpmC,  24,000,000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ud computing vs traditional op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zon, Microsoft Azure, Google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ed for Web/application/database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ed for Web/databas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your application and place it in the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or 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y by the h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ons for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/C-E-H systems that you purchase and host in-house or in a hosting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ap servers from Dell, etc. that you configure for latency, throughput, utilization, etc. using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ud compu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types of clou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fra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outsource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 own operating system, database, ap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flexible, most expensive total IT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 Rack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tfor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outsource operating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 provides OS, database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Amazon, Microsoft, Goog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oftw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no app of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the third party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 salesforc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st flexible, least expensive total IT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ortation exampl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tive On-Demand APT (package carrier TM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 Network (logistic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1-21T16:29:48Z</cp:lastPrinted>
  <dcterms:modified xsi:type="dcterms:W3CDTF">2013-11-23T01:07:07Z</dcterms:modified>
  <cp:revision>254</cp:revision>
  <dc:subject/>
  <dc:title>1.264 Lecture 5</dc:title>
</cp:coreProperties>
</file>