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840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5568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5568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05BF8-94C3-4B23-ADB2-1F08D5EF47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99A82-6951-4FE8-99EA-369D7F45141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411E2-A9E7-4A50-9C21-BF44F585C33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0D886-322C-48D0-B393-CB445541C43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D0024-5227-460F-861F-24A9C16689D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C9EAA-C586-4AFC-B2BD-49ED5F3B65C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F0897-2FBD-4620-B994-FDE7855C9E8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E0946-7FA0-42FF-BAB6-C99D4FF07ED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4737A-20A3-43B2-B75F-7738D18AB0E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5BF53-3F2F-4E36-A11A-3B87A5894C1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4BA54-915D-4238-8C7C-A5D4CF9B92B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41C44-3F1B-4006-8F24-7B100497D58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A8545-EDD4-469D-9496-561BE170AC5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F2295-7FCD-47C7-9AD0-6BA27345EDC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CC2C8-5863-48CA-A0A6-B305F94C14D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0FB70-06CE-4DF9-B535-E26FA128C84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D7F52-8A48-4AD1-B7F9-794116E15AD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36985-B410-4288-9E5B-2B75F3487E9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2637A-679A-4669-B192-13B0B0AD0DA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41F7D-A278-469D-82FD-E68A4FD7DA5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E45A5-0DEB-44EA-A21E-057804B3802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7B811-5E39-4786-A011-5A80EE192A6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0C2BE-B5B6-4679-A966-4FAC430E724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6D5FB-41A3-4468-86E6-ABFFB4039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16A7C-BF91-4D8B-8B32-F24F51DE3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C0AC0-F857-4252-8D25-A93A67241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05B21-5B35-4BEC-9F11-D23DCEA11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C5BF3-CD85-479A-93A9-4ACB92CFB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4EF60-F06E-48C4-A20B-7AA2ED58F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23A6B-BB32-4F43-A60D-3876910F6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01758-CE78-469D-B060-30ECD7EB1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2246C-2292-4495-A68B-8546689C9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D2F93-8861-45FF-A496-DD72D9578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79506-C405-44DF-AB0F-225C2B063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AF714-60AF-4D03-8A21-00C76EA1E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3BB5C-3B12-427D-9086-8019EDCEA4F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1.264 Lecture 24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33160" y="3886200"/>
            <a:ext cx="8001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rvice Oriented Architec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lectronic Data Interchange (EDI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2193120" y="5719680"/>
            <a:ext cx="538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Next class: Anderson chapter 1, 2.  Exercise due </a:t>
            </a:r>
            <a:r>
              <a:rPr b="1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before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class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10" descr="Picture5.jpg"/>
          <p:cNvPicPr/>
          <p:nvPr/>
        </p:nvPicPr>
        <p:blipFill>
          <a:blip r:embed="rId1"/>
          <a:stretch/>
        </p:blipFill>
        <p:spPr>
          <a:xfrm>
            <a:off x="838080" y="1351080"/>
            <a:ext cx="7175520" cy="54306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Web services and existing system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" name="Text Box 10"/>
          <p:cNvSpPr/>
          <p:nvPr/>
        </p:nvSpPr>
        <p:spPr>
          <a:xfrm>
            <a:off x="1081800" y="914400"/>
            <a:ext cx="677664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ntegrated system built using Web services/SOA to existing system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13"/>
          <p:cNvSpPr/>
          <p:nvPr/>
        </p:nvSpPr>
        <p:spPr>
          <a:xfrm>
            <a:off x="3124080" y="1219320"/>
            <a:ext cx="0" cy="5331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Line 16"/>
          <p:cNvSpPr/>
          <p:nvPr/>
        </p:nvSpPr>
        <p:spPr>
          <a:xfrm>
            <a:off x="4952880" y="1219320"/>
            <a:ext cx="0" cy="5331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Line 17"/>
          <p:cNvSpPr/>
          <p:nvPr/>
        </p:nvSpPr>
        <p:spPr>
          <a:xfrm>
            <a:off x="4038480" y="1219320"/>
            <a:ext cx="0" cy="5331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Line 18"/>
          <p:cNvSpPr/>
          <p:nvPr/>
        </p:nvSpPr>
        <p:spPr>
          <a:xfrm>
            <a:off x="5791320" y="1219320"/>
            <a:ext cx="0" cy="5331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 Box 7"/>
          <p:cNvSpPr/>
          <p:nvPr/>
        </p:nvSpPr>
        <p:spPr>
          <a:xfrm>
            <a:off x="8145720" y="6550200"/>
            <a:ext cx="99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rl, “SOA”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ercis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 an SOA diagram for your homework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cide how you would structure your catalog browsing and ordering syste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 your Web servi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 the Web services your customers would use to communicate with yo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Figure 5.4 and/or Figure 5.15 on the previous slides as a templ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Web 2.0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858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-253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rst generation Web services: SOAP, WSDL, UDDI (WSDL regist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49720" indent="-2113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 functional requirements for businesses, but not the supporting requirements: security, reliability, availability, quality of service, choreograph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53800" indent="-253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eb 2.0: WS-* specification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49720" indent="-2113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S-Addressing: references to Web service endpoi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49720" indent="-2113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S-Atomic Transa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49720" indent="-2113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S-Business Process Execution Langu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49720" indent="-2113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S-Choreography Langu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49720" indent="-2113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S-Coordination and WS-Event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49720" indent="-2113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S-Metadata Exchange Langu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49720" indent="-2113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S-Notific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49720" indent="-2113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S-Reliable Messag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49720" indent="-2113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S-Security: end to end, not just point to poi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Business Process Execution Languag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27" name="Picture 2" descr=""/>
          <p:cNvPicPr/>
          <p:nvPr/>
        </p:nvPicPr>
        <p:blipFill>
          <a:blip r:embed="rId1"/>
          <a:stretch/>
        </p:blipFill>
        <p:spPr>
          <a:xfrm rot="21540000">
            <a:off x="1828800" y="1066320"/>
            <a:ext cx="5819760" cy="5464440"/>
          </a:xfrm>
          <a:prstGeom prst="rect">
            <a:avLst/>
          </a:prstGeom>
          <a:ln w="0">
            <a:noFill/>
          </a:ln>
        </p:spPr>
      </p:pic>
      <p:sp>
        <p:nvSpPr>
          <p:cNvPr id="128" name="TextBox 4"/>
          <p:cNvSpPr/>
          <p:nvPr/>
        </p:nvSpPr>
        <p:spPr>
          <a:xfrm>
            <a:off x="4278600" y="6581880"/>
            <a:ext cx="462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rom Kumar, Narayan, Ng: Implementing SOA Using Java E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EDI (Electronic Data Interchange)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DI is a mainframe-based standard for electronic exchange of information. Developed in 1980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DI is expensive, complex and has limited usage, but enough that new technologies must interoperate with 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ypically, large companies use EDI and require it of their smaller partners/vendors, who are not always eager to use 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wo EDI standards: ANSI X12 and EDIFACT (UN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documents follow EDI standards in many ca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DI documents are called Transaction Sets (T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DI to XML mapping established using DTD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ew users of Internet ecommerce may skip EDI and use X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ss than 80,000 of 6-10 million US businesses use ED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25,000 businesses world-wide use ED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DI cost and complexity are large obstacle for medium size busines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EDI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-246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DI communication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34960" indent="-205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nary, not text (difficult to change or troubleshoo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22960" indent="-1645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DI transaction sets are static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22960" indent="-1645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DI designed for expensive and scarce communica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152000" indent="-16452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uch optimization of message size, et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152000" indent="-16452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ntended to replace letters, phone calls, fax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152000" indent="-16452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ot self-describing, cannot be validated, can’t be extended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534960" indent="-205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one through third party value-added networks (VAN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34960" indent="-205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mpanies generally use file transfer to send file to VA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22960" indent="-1645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AN handles EDI exchange with trading partn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22960" indent="-1645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eared to once-a-day, batch exchanges of dat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34960" indent="-205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ample (over a period of days): A purchaser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22960" indent="-1645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nds EDI 840 document (Request for Quot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22960" indent="-1645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eives EDI 843 (Quot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22960" indent="-1645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nds EDI 850 (Purchase Orde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22960" indent="-1645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eives EDI 856 (Shipment Notic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22960" indent="-1645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eives EDI 810 (Invoic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22960" indent="-1645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nds EDI 820 (Payme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DI and XM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34" name="Picture 3" descr="Picture6.jpg"/>
          <p:cNvPicPr/>
          <p:nvPr/>
        </p:nvPicPr>
        <p:blipFill>
          <a:blip r:embed="rId1"/>
          <a:stretch/>
        </p:blipFill>
        <p:spPr>
          <a:xfrm>
            <a:off x="1219320" y="2438280"/>
            <a:ext cx="6210360" cy="2292480"/>
          </a:xfrm>
          <a:prstGeom prst="rect">
            <a:avLst/>
          </a:prstGeom>
          <a:ln w="0">
            <a:noFill/>
          </a:ln>
        </p:spPr>
      </p:pic>
      <p:sp>
        <p:nvSpPr>
          <p:cNvPr id="135" name="TextBox 3"/>
          <p:cNvSpPr/>
          <p:nvPr/>
        </p:nvSpPr>
        <p:spPr>
          <a:xfrm>
            <a:off x="5308920" y="5029200"/>
            <a:ext cx="134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DI/XM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la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EDI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37" name="Picture 4" descr="EDI_ISAExample"/>
          <p:cNvPicPr/>
          <p:nvPr/>
        </p:nvPicPr>
        <p:blipFill>
          <a:blip r:embed="rId1"/>
          <a:stretch/>
        </p:blipFill>
        <p:spPr>
          <a:xfrm>
            <a:off x="2514600" y="152280"/>
            <a:ext cx="4059360" cy="658980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6"/>
          <p:cNvSpPr/>
          <p:nvPr/>
        </p:nvSpPr>
        <p:spPr>
          <a:xfrm>
            <a:off x="7012080" y="6019920"/>
            <a:ext cx="202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DI Exampl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Retail information flow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40" name="Picture 3" descr="Picture7.jpg"/>
          <p:cNvPicPr/>
          <p:nvPr/>
        </p:nvPicPr>
        <p:blipFill>
          <a:blip r:embed="rId1"/>
          <a:stretch/>
        </p:blipFill>
        <p:spPr>
          <a:xfrm>
            <a:off x="457200" y="712800"/>
            <a:ext cx="8461440" cy="614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istributor information flow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42" name="Picture 3" descr="Picture8.jpg"/>
          <p:cNvPicPr/>
          <p:nvPr/>
        </p:nvPicPr>
        <p:blipFill>
          <a:blip r:embed="rId1"/>
          <a:stretch/>
        </p:blipFill>
        <p:spPr>
          <a:xfrm>
            <a:off x="92160" y="692280"/>
            <a:ext cx="8959680" cy="54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2"/>
          <p:cNvSpPr/>
          <p:nvPr/>
        </p:nvSpPr>
        <p:spPr>
          <a:xfrm>
            <a:off x="2286000" y="1108080"/>
            <a:ext cx="914400" cy="1055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eb sv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5029200" y="1173240"/>
            <a:ext cx="914400" cy="12189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eb sv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8001000" y="1173240"/>
            <a:ext cx="914400" cy="10126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B sv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Line 5"/>
          <p:cNvSpPr/>
          <p:nvPr/>
        </p:nvSpPr>
        <p:spPr>
          <a:xfrm>
            <a:off x="3276720" y="1859040"/>
            <a:ext cx="17524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Line 6"/>
          <p:cNvSpPr/>
          <p:nvPr/>
        </p:nvSpPr>
        <p:spPr>
          <a:xfrm flipV="1">
            <a:off x="6019920" y="1703520"/>
            <a:ext cx="1981080" cy="46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7"/>
          <p:cNvSpPr/>
          <p:nvPr/>
        </p:nvSpPr>
        <p:spPr>
          <a:xfrm flipH="1">
            <a:off x="5943600" y="2054160"/>
            <a:ext cx="19051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8"/>
          <p:cNvSpPr/>
          <p:nvPr/>
        </p:nvSpPr>
        <p:spPr>
          <a:xfrm flipH="1">
            <a:off x="3200400" y="2163600"/>
            <a:ext cx="18288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Line 9"/>
          <p:cNvSpPr/>
          <p:nvPr/>
        </p:nvSpPr>
        <p:spPr>
          <a:xfrm>
            <a:off x="3276720" y="1249200"/>
            <a:ext cx="17524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Line 12"/>
          <p:cNvSpPr/>
          <p:nvPr/>
        </p:nvSpPr>
        <p:spPr>
          <a:xfrm flipH="1">
            <a:off x="3200400" y="1554120"/>
            <a:ext cx="18288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Text Box 13"/>
          <p:cNvSpPr/>
          <p:nvPr/>
        </p:nvSpPr>
        <p:spPr>
          <a:xfrm>
            <a:off x="154080" y="1173240"/>
            <a:ext cx="8787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-to-B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-to-C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Text Box 14"/>
          <p:cNvSpPr/>
          <p:nvPr/>
        </p:nvSpPr>
        <p:spPr>
          <a:xfrm>
            <a:off x="3350520" y="955800"/>
            <a:ext cx="159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Web svc request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Text Box 15"/>
          <p:cNvSpPr/>
          <p:nvPr/>
        </p:nvSpPr>
        <p:spPr>
          <a:xfrm>
            <a:off x="3350520" y="1301760"/>
            <a:ext cx="174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Web svc response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Text Box 18"/>
          <p:cNvSpPr/>
          <p:nvPr/>
        </p:nvSpPr>
        <p:spPr>
          <a:xfrm>
            <a:off x="3358080" y="1630440"/>
            <a:ext cx="1762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HTTP/XML request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Text Box 19"/>
          <p:cNvSpPr/>
          <p:nvPr/>
        </p:nvSpPr>
        <p:spPr>
          <a:xfrm>
            <a:off x="3359520" y="1935000"/>
            <a:ext cx="196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HTTP/XML, response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Text Box 20"/>
          <p:cNvSpPr/>
          <p:nvPr/>
        </p:nvSpPr>
        <p:spPr>
          <a:xfrm>
            <a:off x="5920200" y="1496880"/>
            <a:ext cx="1911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B conn, SQL quer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Text Box 21"/>
          <p:cNvSpPr/>
          <p:nvPr/>
        </p:nvSpPr>
        <p:spPr>
          <a:xfrm>
            <a:off x="5934960" y="180828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B conn, SQL resultset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Rectangle 34"/>
          <p:cNvSpPr/>
          <p:nvPr/>
        </p:nvSpPr>
        <p:spPr>
          <a:xfrm>
            <a:off x="1066680" y="1143000"/>
            <a:ext cx="914400" cy="914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B sv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Line 36"/>
          <p:cNvSpPr/>
          <p:nvPr/>
        </p:nvSpPr>
        <p:spPr>
          <a:xfrm>
            <a:off x="1981080" y="140184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Line 37"/>
          <p:cNvSpPr/>
          <p:nvPr/>
        </p:nvSpPr>
        <p:spPr>
          <a:xfrm>
            <a:off x="1981080" y="155412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Rectangle 39"/>
          <p:cNvSpPr/>
          <p:nvPr/>
        </p:nvSpPr>
        <p:spPr>
          <a:xfrm>
            <a:off x="2286000" y="2316240"/>
            <a:ext cx="914400" cy="457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lient/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rows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TextBox 41"/>
          <p:cNvSpPr/>
          <p:nvPr/>
        </p:nvSpPr>
        <p:spPr>
          <a:xfrm>
            <a:off x="2987280" y="152280"/>
            <a:ext cx="316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Solution- case stud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72" name="Straight Arrow Connector 37"/>
          <p:cNvCxnSpPr>
            <a:stCxn id="70" idx="3"/>
          </p:cNvCxnSpPr>
          <p:nvPr/>
        </p:nvCxnSpPr>
        <p:spPr>
          <a:xfrm flipV="1">
            <a:off x="3200400" y="1828080"/>
            <a:ext cx="1829520" cy="7167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73" name="Straight Arrow Connector 39"/>
          <p:cNvCxnSpPr/>
          <p:nvPr/>
        </p:nvCxnSpPr>
        <p:spPr>
          <a:xfrm flipH="1">
            <a:off x="3200040" y="2132640"/>
            <a:ext cx="182952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74" name="Text Box 19"/>
          <p:cNvSpPr/>
          <p:nvPr/>
        </p:nvSpPr>
        <p:spPr>
          <a:xfrm>
            <a:off x="3285360" y="2511360"/>
            <a:ext cx="219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HTTP/XHTML, response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Text Box 18"/>
          <p:cNvSpPr/>
          <p:nvPr/>
        </p:nvSpPr>
        <p:spPr>
          <a:xfrm>
            <a:off x="3307320" y="2282760"/>
            <a:ext cx="133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HTTP request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685440" y="3428640"/>
            <a:ext cx="807732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SLT used by customer or manufacturer/distributor to alter XML being sent or receiv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SD and/or DTD used by customer or manufacturer/ distributor to validate XML being sent or rec’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eb services package the HTTP, XML, XSD, request/response and URL used in “raw” XML transf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eb services described in WSDL documents in registry. E.g.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anufacturer/distributor registers Web service in UDDI regist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ustomer discovers Web service and invokes it on mfr/distrib Web serv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sual tool: CSS for XHTML, XSLT for X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TextBox 3"/>
          <p:cNvSpPr/>
          <p:nvPr/>
        </p:nvSpPr>
        <p:spPr>
          <a:xfrm>
            <a:off x="5409000" y="620640"/>
            <a:ext cx="289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nufacturer, distributo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TextBox 43"/>
          <p:cNvSpPr/>
          <p:nvPr/>
        </p:nvSpPr>
        <p:spPr>
          <a:xfrm>
            <a:off x="1357200" y="620640"/>
            <a:ext cx="124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usto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Rectangle 34"/>
          <p:cNvSpPr/>
          <p:nvPr/>
        </p:nvSpPr>
        <p:spPr>
          <a:xfrm>
            <a:off x="3352680" y="2971800"/>
            <a:ext cx="1497240" cy="457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dustry sv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0" name="Straight Arrow Connector 39"/>
          <p:cNvCxnSpPr>
            <a:stCxn id="52" idx="2"/>
            <a:endCxn id="79" idx="3"/>
          </p:cNvCxnSpPr>
          <p:nvPr/>
        </p:nvCxnSpPr>
        <p:spPr>
          <a:xfrm flipH="1">
            <a:off x="4849560" y="2391840"/>
            <a:ext cx="637200" cy="80892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med" type="arrow" w="med"/>
          </a:ln>
        </p:spPr>
      </p:cxnSp>
      <p:sp>
        <p:nvSpPr>
          <p:cNvPr id="81" name="Text Box 19"/>
          <p:cNvSpPr/>
          <p:nvPr/>
        </p:nvSpPr>
        <p:spPr>
          <a:xfrm>
            <a:off x="4961520" y="2968560"/>
            <a:ext cx="158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WSDL, XSD/DTD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2" name="Straight Arrow Connector 39"/>
          <p:cNvCxnSpPr>
            <a:stCxn id="51" idx="2"/>
          </p:cNvCxnSpPr>
          <p:nvPr/>
        </p:nvCxnSpPr>
        <p:spPr>
          <a:xfrm>
            <a:off x="2743200" y="2163600"/>
            <a:ext cx="596160" cy="1036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med" type="arrow" w="med"/>
          </a:ln>
        </p:spPr>
      </p:cxnSp>
      <p:sp>
        <p:nvSpPr>
          <p:cNvPr id="83" name="Text Box 19"/>
          <p:cNvSpPr/>
          <p:nvPr/>
        </p:nvSpPr>
        <p:spPr>
          <a:xfrm>
            <a:off x="1837440" y="2986200"/>
            <a:ext cx="158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WSDL, XSD/DTD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Text Box 19"/>
          <p:cNvSpPr/>
          <p:nvPr/>
        </p:nvSpPr>
        <p:spPr>
          <a:xfrm>
            <a:off x="790560" y="2544840"/>
            <a:ext cx="1467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XSLT if needed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5" name="Straight Arrow Connector 39"/>
          <p:cNvCxnSpPr>
            <a:endCxn id="84" idx="0"/>
          </p:cNvCxnSpPr>
          <p:nvPr/>
        </p:nvCxnSpPr>
        <p:spPr>
          <a:xfrm flipH="1">
            <a:off x="1523160" y="2185560"/>
            <a:ext cx="762840" cy="359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med" type="arrow" w="med"/>
          </a:ln>
        </p:spPr>
      </p:cxnSp>
      <p:sp>
        <p:nvSpPr>
          <p:cNvPr id="86" name="Text Box 19"/>
          <p:cNvSpPr/>
          <p:nvPr/>
        </p:nvSpPr>
        <p:spPr>
          <a:xfrm>
            <a:off x="5545080" y="2544840"/>
            <a:ext cx="1467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XSLT if needed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7" name="Straight Arrow Connector 39"/>
          <p:cNvCxnSpPr>
            <a:endCxn id="86" idx="0"/>
          </p:cNvCxnSpPr>
          <p:nvPr/>
        </p:nvCxnSpPr>
        <p:spPr>
          <a:xfrm>
            <a:off x="5930640" y="2392200"/>
            <a:ext cx="347760" cy="15336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nancial information flow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44" name="Picture 3" descr="Picture9.jpg"/>
          <p:cNvPicPr/>
          <p:nvPr/>
        </p:nvPicPr>
        <p:blipFill>
          <a:blip r:embed="rId1"/>
          <a:stretch/>
        </p:blipFill>
        <p:spPr>
          <a:xfrm>
            <a:off x="152280" y="785880"/>
            <a:ext cx="8839440" cy="56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Manufacturing/engineering information flow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46" name="Picture 3" descr="Picture10.jpg"/>
          <p:cNvPicPr/>
          <p:nvPr/>
        </p:nvPicPr>
        <p:blipFill>
          <a:blip r:embed="rId1"/>
          <a:stretch/>
        </p:blipFill>
        <p:spPr>
          <a:xfrm>
            <a:off x="182520" y="706320"/>
            <a:ext cx="8778960" cy="599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Manufacturer information flow: detai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48" name="Picture 3" descr="Picture11.jpg"/>
          <p:cNvPicPr/>
          <p:nvPr/>
        </p:nvPicPr>
        <p:blipFill>
          <a:blip r:embed="rId1"/>
          <a:stretch/>
        </p:blipFill>
        <p:spPr>
          <a:xfrm>
            <a:off x="158760" y="685800"/>
            <a:ext cx="8826480" cy="60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RP and EDI/XML standard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previous slides define the core of an ERP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ny have very substantial additions for human resources, planning,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 can buy a full ERP or mix and match best of breed systems. Web service/SOA integration is commo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most every interface on the previous slides has a defined EDI or XML transaction set or message set, typically defined by indust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DCC (1968), EDX, CDIX, TALC, UCS/VICS, WINS, BVAI and other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hallenges of system integration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mpanies use multiple systems that must increasingly cooper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ystems often are in different business group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 in different companies (vendors, channel partners…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un on different platforms (operating system, hardwar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ritten in different languag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different communication protoco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le transfer, EDI, XML, RPC, MQ, CORBA, COM, sockets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ave different databases, data defini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ave different objectives, run at different times/perio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lution is desired that allows integration in spite of different languages, protocols, hardware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rvice oriented architecture (SOA)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eb services are basis for integration in SO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 core of standard open technologies are us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, XML Schema (XSD), XSLT, SOAP, WSD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perating system-, hardware-, software-, database-neutr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 registry (database) is used to store WSDL for service discove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urity, reliability, performance, transactions must be added to ‘primitive’ Web services to have SO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A supports composition (assembling) of services, reusability of services, extensibi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A is based on a service-focused business mod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ML business process models can be implemented in SO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rvice oriented architecture 2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A is based on loose coupling between syste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ynchronous, or message-oriented (MOM) integ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ocument is sent from system A to system 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ponse generally not guaranteed in any given ti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 process may not complete for a long t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xample: Shipment tracking service (succes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xample: Async telecom service orders system (failed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ample of current SOA implementation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3080160" y="6345360"/>
            <a:ext cx="236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rvice is Web servic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6641280" y="6488280"/>
            <a:ext cx="215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rom Thomas Erl, “SOA”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" name="Content Placeholder 7" descr="Picture1.jpg"/>
          <p:cNvPicPr/>
          <p:nvPr/>
        </p:nvPicPr>
        <p:blipFill>
          <a:blip r:embed="rId1"/>
          <a:stretch/>
        </p:blipFill>
        <p:spPr>
          <a:xfrm>
            <a:off x="906480" y="1981080"/>
            <a:ext cx="73310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A architecture (between Web servers)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99" name="Content Placeholder 4" descr="Picture2.jpg"/>
          <p:cNvPicPr/>
          <p:nvPr/>
        </p:nvPicPr>
        <p:blipFill>
          <a:blip r:embed="rId1"/>
          <a:stretch/>
        </p:blipFill>
        <p:spPr>
          <a:xfrm>
            <a:off x="593640" y="1676520"/>
            <a:ext cx="7956720" cy="472428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7"/>
          <p:cNvSpPr/>
          <p:nvPr/>
        </p:nvSpPr>
        <p:spPr>
          <a:xfrm>
            <a:off x="8145720" y="6550200"/>
            <a:ext cx="99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rl, “SOA”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A use of WSD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02" name="Content Placeholder 4" descr="Picture3.jpg"/>
          <p:cNvPicPr/>
          <p:nvPr/>
        </p:nvPicPr>
        <p:blipFill>
          <a:blip r:embed="rId1"/>
          <a:stretch/>
        </p:blipFill>
        <p:spPr>
          <a:xfrm>
            <a:off x="1773360" y="1295280"/>
            <a:ext cx="5597280" cy="5486400"/>
          </a:xfrm>
          <a:prstGeom prst="rect">
            <a:avLst/>
          </a:prstGeom>
          <a:ln w="0">
            <a:noFill/>
          </a:ln>
        </p:spPr>
      </p:pic>
      <p:sp>
        <p:nvSpPr>
          <p:cNvPr id="103" name="TextBox 3"/>
          <p:cNvSpPr/>
          <p:nvPr/>
        </p:nvSpPr>
        <p:spPr>
          <a:xfrm>
            <a:off x="249120" y="2743200"/>
            <a:ext cx="1305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nvoice 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ubmission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rvic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Box 4"/>
          <p:cNvSpPr/>
          <p:nvPr/>
        </p:nvSpPr>
        <p:spPr>
          <a:xfrm>
            <a:off x="404280" y="3970440"/>
            <a:ext cx="1146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Order 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ulfillment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rvic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Box 5"/>
          <p:cNvSpPr/>
          <p:nvPr/>
        </p:nvSpPr>
        <p:spPr>
          <a:xfrm>
            <a:off x="7576560" y="2590920"/>
            <a:ext cx="1102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ccount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aya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rvic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Box 6"/>
          <p:cNvSpPr/>
          <p:nvPr/>
        </p:nvSpPr>
        <p:spPr>
          <a:xfrm>
            <a:off x="7581960" y="3962520"/>
            <a:ext cx="1093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urchas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order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rvic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7"/>
          <p:cNvSpPr/>
          <p:nvPr/>
        </p:nvSpPr>
        <p:spPr>
          <a:xfrm>
            <a:off x="8145720" y="6550200"/>
            <a:ext cx="99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rl, “SOA”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A service composition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09" name="Picture 5" descr="Picture4.jpg"/>
          <p:cNvPicPr/>
          <p:nvPr/>
        </p:nvPicPr>
        <p:blipFill>
          <a:blip r:embed="rId1"/>
          <a:stretch/>
        </p:blipFill>
        <p:spPr>
          <a:xfrm>
            <a:off x="1239840" y="1371600"/>
            <a:ext cx="6664320" cy="530388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7"/>
          <p:cNvSpPr/>
          <p:nvPr/>
        </p:nvSpPr>
        <p:spPr>
          <a:xfrm>
            <a:off x="8145720" y="6550200"/>
            <a:ext cx="99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rl, “SOA”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59840" y="2362320"/>
            <a:ext cx="1102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ccount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aya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rvic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8022600" y="2209680"/>
            <a:ext cx="880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Vendor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rofi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rvic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Box 5"/>
          <p:cNvSpPr/>
          <p:nvPr/>
        </p:nvSpPr>
        <p:spPr>
          <a:xfrm>
            <a:off x="8006760" y="3970440"/>
            <a:ext cx="88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Ledger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rvic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19T18:28:28Z</dcterms:created>
  <dc:creator>George Kocur</dc:creator>
  <dc:description/>
  <dc:language>en-US</dc:language>
  <cp:lastModifiedBy>gkocur</cp:lastModifiedBy>
  <cp:lastPrinted>2011-11-07T15:38:59Z</cp:lastPrinted>
  <dcterms:modified xsi:type="dcterms:W3CDTF">2012-12-29T01:32:44Z</dcterms:modified>
  <cp:revision>196</cp:revision>
  <dc:subject/>
  <dc:title>1.264 Lecture 5</dc:title>
</cp:coreProperties>
</file>