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5BED-B510-4514-8218-9703D6ED3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7CB1-303A-4D90-8AAD-0E258DBFBE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9569-FFC9-4DED-9AB9-A74C55883B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0982-326E-42E2-8C71-8A6957CB93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B1D2-3FD0-4FAD-B1A6-2ACF1F4EC4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8A94-C718-4657-B586-F721BC6148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361E-5562-4AE5-A723-A15BB6B9A6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E273-C778-4FF7-9207-37E19B6B2D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60A5-ADC1-4D34-A3DF-D13C1F6CC6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9063-01B4-43A4-9819-7FC160FBDB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AD00-EA3F-4D16-BABF-01D12578F5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4885-27F7-4936-A8CB-372EF7DC80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4001-8103-4BBE-9F72-FFB0A08C44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E99C-004C-4863-8DE2-68CE02DC7B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77F7-B2B6-4AB5-AC5A-D1FE2C1C36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9461-42C2-4DF1-B86B-B1ABADF2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4AD3-2CB9-40C9-9A59-4952BC9A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6108-B069-46B8-AAAA-2666B3F2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9476-57C4-455B-B292-898F295D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0E54-45A3-4491-BC7A-33286BF7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C263-2A48-4BEA-B071-F2831021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C04F-E2EC-4872-B21A-4038F11F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943A-AAB2-4758-9105-21282C50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61EE-447B-40CD-BDF8-EDB37E1D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B449-3263-41D7-A32A-9FEDDA75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B009-D1BA-4A55-9EA9-3746CA14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2FAB-7E16-4FE1-8654-18753F62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9031-41CE-4C73-8ED3-AAD72E90984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cryptograph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720" y="5719680"/>
            <a:ext cx="51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10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yptography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y protects against eavesdropping, tampering (cut and past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does not protect against replay (need freshness for that) or necessarily against man-in-the-midd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hing protects against denial of service attacks except shutting down the attack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aging network risks: Cryptograph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intext: original mess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phertext: encrypted mess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yptographic algorithm: function converting plaintext to ciphert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: number used by algorithm to encrypt and/or decryp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the same as a database key (primary or foreign!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ion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metric: sender and receiver use same secret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ymmetric: sender and receiver use different, but related keys. Receiver key public, used by all senders to that recei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91440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96252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pher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693432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057400" y="487692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5105520" y="48769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2438280" y="441972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5638680" y="441972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mmetric encryp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algorithms use same key to encrypt and decryp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 (Data Encryption Standard): 56 bit k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lits data into pieces, reshuff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acked in 1998 after 30 years of use: faster hardwa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ple DES: encrypt/decrypt/encrypt with 3 DES keys: 168 bit effective key leng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ckward compatible with DES in banking, et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C2, RC4, RC5: 40-2048 bit keys, in common use by encrypting Web servers and brow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ES: Current US government standard, uses Rijndael algorith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s with symmetric ke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st be exchanged in advance, via secure met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-way communication not supported effectively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many users must communicate with server, compromising any one can compromise al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(very simplified from real thing!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: 3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1= 3, k2= 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er algorithm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left. (Wrap around as needed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ract k2 from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phertext: 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eiver algorith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k2 to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right. (Wrap around as needed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 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Real symmetric algorithms chop, shift, add/subtract in complex patterns to remove statistical patterns in data—see text: S-boxe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: 3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1= 3, k2= 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er algorithm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lef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ract k2 from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phertext:  28495736 -&gt;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1738462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eiver algorith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k2 to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righ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 62517384 -&gt;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Real symmetric algorithms chop, shift, add/subtract in complex patterns to remove statistical patterns in data---see text: S-boxe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 Box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5" name="Picture 8" descr="SBox"/>
          <p:cNvPicPr/>
          <p:nvPr/>
        </p:nvPicPr>
        <p:blipFill>
          <a:blip r:embed="rId1"/>
          <a:stretch/>
        </p:blipFill>
        <p:spPr>
          <a:xfrm>
            <a:off x="990720" y="1828800"/>
            <a:ext cx="731196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7834320" y="65530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Ander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7394040" y="6172200"/>
            <a:ext cx="182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see AES Wiki en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hotel key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protocol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attacks are possibl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t and pas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effect of encrypt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1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hotel key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oco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(card) -&gt; D (door) : N1, N2,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N3, N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N1 is the current co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2, </a:t>
            </a:r>
            <a:r>
              <a:rPr b="1" i="1" lang="en-US" sz="1800" spc="-1" strike="noStrike">
                <a:solidFill>
                  <a:srgbClr val="00ffff"/>
                </a:solidFill>
                <a:latin typeface="Arial"/>
              </a:rPr>
              <a:t>N3 and N4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 previous codes </a:t>
            </a:r>
            <a:r>
              <a:rPr b="1" i="1" lang="en-US" sz="1800" spc="-1" strike="noStrike">
                <a:solidFill>
                  <a:srgbClr val="00ffff"/>
                </a:solidFill>
                <a:latin typeface="Arial"/>
              </a:rPr>
              <a:t>(if they can fit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 is the number of days the room is reserv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N2 is correct, N1 is written to door unit, door ope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N1 is correct and days&lt;T, door ope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ied card can be used. No protection in this protoco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acker can change value of T. Works unless another guest is given the roo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is possible. Attacker can intercept card-door interaction, write it to new card, and enter room.  Mag stripe readers emit radi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ion doesn’t prevent copy or replay; it makes cut and paste har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expected problem: unused rooms/ke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asic key management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and Bob wish to communic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 is a trusted third party (shares keys with Alice and Bob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key is a secret number that both encrypts and decryp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calls Sam, asks for key to talk with Bo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-&gt; S: A, B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(A and B are principals or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ame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 sends Alice pair of certificates (ciphertex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contains copy of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rst is encrypted so only Alice can read it: K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A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is encrypted so only Bob can read it: K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B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 -&gt; A: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A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,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(T is tim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retrieves her key, sends Bob the second certific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e then sends him a message that he can decryp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-&gt; B: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, {M} 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Can be replayed; no freshnes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rber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trusted serv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hentication server to which users log 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cket-granting server, which gives access to files and programs (authorizatio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more scalable than a single ser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asks ticket server for access to Bo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-&gt; S: A,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sends ticket, encrypted with A’s password (key), granting access to B at time T for lifetime L of tick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 -&gt; A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B,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A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sends timestamp to resource B, which confirms it’s al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-&gt; B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A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B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{A, 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b sends timestamp incremented by o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 -&gt; A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+1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rberos, con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avoids replay attacks and compromised keys by using timestam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romised keys are a problem only for their lifetime L, typically measured in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clocks must now be synchroniz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rberos is used for Microsoft security and many single login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don’t we use Kerberos for Internet and Web securit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rberos requires a central key server trusted by all par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is broken, all communications are expos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is down, no one can initiate secure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o would such a trusted party be on the Internet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would be expens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use a different protocol, SSL (next lectur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sswords as a protocol: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implest security protocol is a username and pass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the most vulnerable piece of 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used to protect other security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browser SSL certificate is protected by a passwo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beros/Microsoft security key is your passwo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iss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enginee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disclose passwords to third pa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96000" indent="-185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y accident, on purpose, or through decep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296000" indent="-185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eption common in health care, insurance, bank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password ent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mistype passwords; password rese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embering pass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write down passwords, choose weak passwor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sswords: solu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26 letters, 10 digits: 36 possible characters at each location in a pass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should be about 5 bits (2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32 combination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ause of patterns, it’s usually only 1.5-2 bits/ch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8 character password is less than a 16 bit ke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ily broken (see the book for many attack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sphr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dware password genera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metrics (which can also be attack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yptographic primitiv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key encryp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encrypt sess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mmetric (public) key encryp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distribute symmetric key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is for digital sign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am or block ciph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apply key to mes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ssage digests (hash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verify message integ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gital signatures (certificat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verify identity of princip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vered as part of Secure Sockets Layer (SS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8T15:50:20Z</cp:lastPrinted>
  <dcterms:modified xsi:type="dcterms:W3CDTF">2013-11-12T17:45:46Z</dcterms:modified>
  <cp:revision>195</cp:revision>
  <dc:subject/>
  <dc:title>1.264 Lecture 5</dc:title>
</cp:coreProperties>
</file>