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241F287-2692-43D3-8086-5C00780D6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2DAF134-E3FB-40DD-8884-C69B5EA2E0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045EDD8-6738-4BCC-A197-EE57DD6366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1AC8D8C-B9A3-49D8-8294-2334BE52AF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3BB74F4-0299-46B1-909D-9B7B9B848B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1C6DBCF-7348-4CE3-8043-C07548E435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FD233B6-6EA6-4997-8D72-FAF8A8F008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3860D96-2F8E-48E8-AED0-C29B2993AC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350770B-AEE1-484C-B423-B1145EF0D0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1B0E216-CFD6-460A-B86A-3242CD67CD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A7142F8-7155-4066-B65F-E9357FD5C8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44A4640-D99D-459D-A4F3-E786323DF8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5E9222D-D069-4F91-9B7B-5DF2063777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E9AF878-4CCB-4997-9FB5-C0BDA7236D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3229471-CF9E-4165-B203-5002DE0D05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F2E8868-3CBF-400F-9836-F865C23285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B598979-7DF8-4938-A566-8263D2E2DD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CF4B-7FC3-49C5-943A-834AE101F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32CB-A3A0-4992-A297-65ECAC7E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C267-5DF4-44EA-9565-BEF08C283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B6CA-09B4-43DD-975C-2AF21488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EF8F-BFDD-418B-B8F8-1E67C765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2B2E-991A-469F-9ED0-88ECE640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9513-FE7B-4FC9-855F-8BB428D9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7436-7645-44B5-9FA7-D90C4800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E480-639C-4E97-80C6-CF1A15A7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CDA7-C12D-4754-BFD0-CC9AAB9C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1D54-5615-4610-97E5-104C90A5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C12E-802D-415F-90A2-EC95D9B7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BAF3-0FFB-4A48-920C-EC7E527582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4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lecom: Connecting wired LAN, W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836720" y="5719680"/>
            <a:ext cx="497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Green chapter 17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ttp://web.mit.edu/subjectevalu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cess to metro area Ether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thernet in the First Mile (EF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per: encapsulate Ethernet within modified DS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 Mbps up to 2.7 km, 10 Mbps up to 0.8 k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ber: essentially Gigabit Ethernet, up to 20 k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es not provide self-healing or diverse ro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ilient Packet Ring (RP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s alternate routes and failover, like SO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ual counter-rotating r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s Ethernet simplicity for applications,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 Ether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3" name="Picture 4" descr="Lec22b"/>
          <p:cNvPicPr/>
          <p:nvPr/>
        </p:nvPicPr>
        <p:blipFill>
          <a:blip r:embed="rId1"/>
          <a:stretch/>
        </p:blipFill>
        <p:spPr>
          <a:xfrm>
            <a:off x="1523880" y="1295280"/>
            <a:ext cx="618804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MA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981080"/>
          <a:ext cx="7772400" cy="3133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 (kilometer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wn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devi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 (Mb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liency/redundancy (yes/n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there a service level agreement (contract)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86" name="TextBox 5"/>
          <p:cNvSpPr/>
          <p:nvPr/>
        </p:nvSpPr>
        <p:spPr>
          <a:xfrm>
            <a:off x="850680" y="5410080"/>
            <a:ext cx="729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ve approximate ranges for distance, devices, bandwid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85800" y="1981080"/>
          <a:ext cx="7772400" cy="3133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 (kilometer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5 k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50 k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wn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y/us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i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devi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 (Mb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Mbps-1 Gbit/se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bps-10 Gbit/se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liency/redundancy (yes/n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usual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there a service level agreement (contract)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cess technologies to connect LAN to WAN, if there is no MA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nown as ‘last mile’ 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bandwidth at LAN and MAN, but little in ‘last mile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gital subscriber line (DS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d over existing copper lines to telco swit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Z (and others) moving DSL users to 4G LTE, in preparation of abandoning copper pl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ble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d over existing coax cable to CATV head 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reless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G cellular “long term evolution” (L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tellite, in remote/ocean/air sett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ber to the business/home/cur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925760" y="658332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gital Subscriber Line (DSL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3" name="Picture 4" descr="Lec20e"/>
          <p:cNvPicPr/>
          <p:nvPr/>
        </p:nvPicPr>
        <p:blipFill>
          <a:blip r:embed="rId1"/>
          <a:stretch/>
        </p:blipFill>
        <p:spPr>
          <a:xfrm>
            <a:off x="1447920" y="1676520"/>
            <a:ext cx="6208560" cy="41148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1167840" y="5943600"/>
            <a:ext cx="648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ny technical variations: ADSL, HDSL, SDSL, VDS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ypically 12-18,000 foot limit; data rates of 500 kbps up to 8 Mb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2670840" y="4449600"/>
            <a:ext cx="79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carr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ymmetric DSL (ADSL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pper line from customer to central office can handle 1.1 MHz, in the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impairments (noise, crosstalk, etc.) ex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stream ADSL uses 24 4.3kHz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most same as voice channel, carries 60 kbps (not 6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ory, we get 24 * 60 kbps, or 1.44 Mbps 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practice, we get 500 kb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wnstream ADSL uses 224 4.3kHz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ory, we get 13.4 Mb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practice, we get 8 Mbps or l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vari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DSL uses 2 pairs for 1.5 Mbps up to 12,000 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L uses 1 pair for 768 kbps up to 18,000 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DSL may get 3-25 Mbps over 3,000+ 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ble acces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ble channel is 6MHz wide for broadcast vid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ble bandwidth is 750 MHz approximately (coa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wnstream video: 45-550 MHz: 80 channels at 6 MH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wnstream data: 550-750 MHz: 33 channels at 6 MH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stream data: 5-42 MHz: 6 channels at 6 MHz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ch channel can carry ~10 Mbps of data downstream, ~5-10 Mbps upstre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ndwidth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har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cross all cable users in seg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CSIS is cable standard for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thernet-like protocol. Users contend/collide to se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seen by all devices on cable segment, so it’s sometimes encrypted using RSA (public key encryption) and other protoc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ble TV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562440" cy="55911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2816640" y="337968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ten fiber n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reless acces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G cellular data (“long term evolution”: L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 Mbps, though bandwidth may satu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cing fiber to homes, small busin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tell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wnstream speeds acceptable (a few Mbp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stream links either not available or very expen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8-256kbps can cost $800-$1,000/mon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tellites have limited power, long paths, high lo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tellite paths have high delays, unsuitable for inter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serve rural ar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cover wireless in detail l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ransportation brokerage company also handles billing for freight shipments, collecting from shippers and forwarding payment to carri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data must be secure; you route funds directly to banks in some cases and between customers in other c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would you communicate between your three major sites in New Jersey, Houston and Los Ange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transfer approximately 10,000 bills of lading in a 1 hour window at the end of each day from Houston and Los Angeles to New Jersey, which is the only site connected to banks and custom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bill is about 500 kB of data (documents and signatures are scann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the technology and bandwid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ll you use LAN, WAN or MAN technology, or combina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specific technologies will you use? Discuss options, pros/cons brief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cuss broader options surrounding your choi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a depot in an industrial area without carrier fiber op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1,000 buses that return to the depot every evening and upload video to a remote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bus has 10 hours of 384 kbps vide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goes via WiFi (wireless LAN) from each bus to a depot server, and then to the remote serv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want all data to transmit in 2 hou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oose between DSL, cable TV and 4G wireless access.  Which of these 3 can handle 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y can’t, what do you n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/sec= 1,000 veh * 384 kbps= 384 Mb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me to send= 2 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me to record= 10 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us, the data must be sent 5 times as fast as it was recor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dwidth= 5 * 384 Mbps= 1920 Mbps= 1.92 Gb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SL, CATV or 4G/LTE cannot handle 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need OC-48 (2.5 Gbps) over fiber to do this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ight be better off having each bus send real time video over LTE, though it would be expensive…  You could sample, have driver control it (usually)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2193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P: Internet Service Provi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P: Network Access Point: ISP interconnect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eder: Telecom cable from central office (CO) to service area interface (SAI) in neighborh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tribution: Telecom cable from SAI to end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M: Ethernet in First Mile: access to 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PR: Resilient Packet Ring: access to 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SL: Digital Subscriber Line: Internet access over cop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SLAM: DSL access multiplexer, at central off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C: Local exchange carrier (e.g., Verizion, AT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CSIS: Cable TV data standard, Ethernet-l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dwidt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00 kB x 8 bits/byte x 10 000 docs / 3600 seconds/h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roximately 11 Mbps raw data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on should be at least 15 Mbps, for overhead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we route LA traffic via Houston, Houston-NJ needs 25-30 Mb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ither case requires OC-1 (45-51 Mbps) bandwid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ology: WAN between LANs at each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only two links (LA-Houston and Houston-NJ), two point to point fiber optic links are a possible so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d only 1 hour a day, though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net could handle it but large bursty traffic across the country would have reliability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siness traffic has security issues on open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tellite bandwidth too low (network video has special dea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, p.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siness process can/must chan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ed years ago with small amount of data and expensive tele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aper to send documents in real time n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docs sent in real time 10 hrs/day, bandwidth = 1.5Mbps, which can be handled by T1, DSL, … much less expensively.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.5 Mbps is a sweet spo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, look further: do we need to send all 500 kB to the bank? If we store the full document, can we send just the part the bank needs? Trade off complexity vs c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other reason why we use spiral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ecom considerations at the very end can require changing a business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requires changing requirements among channel partn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changes UML, database (maybe), Web service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we find this in the first spiral, we can change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we find this at the end of chaos/waterfall, it can be despe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Lec20c"/>
          <p:cNvPicPr/>
          <p:nvPr/>
        </p:nvPicPr>
        <p:blipFill>
          <a:blip r:embed="rId1"/>
          <a:stretch/>
        </p:blipFill>
        <p:spPr>
          <a:xfrm>
            <a:off x="1371600" y="1295280"/>
            <a:ext cx="6727680" cy="5145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AN, WAN and access (last mil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Straight Connector 3"/>
          <p:cNvSpPr/>
          <p:nvPr/>
        </p:nvSpPr>
        <p:spPr>
          <a:xfrm>
            <a:off x="1676520" y="4572000"/>
            <a:ext cx="25146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Straight Connector 9"/>
          <p:cNvSpPr/>
          <p:nvPr/>
        </p:nvSpPr>
        <p:spPr>
          <a:xfrm>
            <a:off x="1676520" y="6248520"/>
            <a:ext cx="25146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Straight Connector 10"/>
          <p:cNvSpPr/>
          <p:nvPr/>
        </p:nvSpPr>
        <p:spPr>
          <a:xfrm>
            <a:off x="4191120" y="4572000"/>
            <a:ext cx="0" cy="1676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Straight Connector 13"/>
          <p:cNvSpPr/>
          <p:nvPr/>
        </p:nvSpPr>
        <p:spPr>
          <a:xfrm>
            <a:off x="1676520" y="4572000"/>
            <a:ext cx="0" cy="1676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Straight Connector 14"/>
          <p:cNvSpPr/>
          <p:nvPr/>
        </p:nvSpPr>
        <p:spPr>
          <a:xfrm>
            <a:off x="5410080" y="4572000"/>
            <a:ext cx="25146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Straight Connector 15"/>
          <p:cNvSpPr/>
          <p:nvPr/>
        </p:nvSpPr>
        <p:spPr>
          <a:xfrm>
            <a:off x="5410080" y="6248520"/>
            <a:ext cx="25146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Straight Connector 16"/>
          <p:cNvSpPr/>
          <p:nvPr/>
        </p:nvSpPr>
        <p:spPr>
          <a:xfrm>
            <a:off x="7924680" y="4572000"/>
            <a:ext cx="0" cy="1676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Straight Connector 17"/>
          <p:cNvSpPr/>
          <p:nvPr/>
        </p:nvSpPr>
        <p:spPr>
          <a:xfrm>
            <a:off x="5410080" y="4572000"/>
            <a:ext cx="0" cy="1676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462960" y="52578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Box 19"/>
          <p:cNvSpPr/>
          <p:nvPr/>
        </p:nvSpPr>
        <p:spPr>
          <a:xfrm>
            <a:off x="8103600" y="52578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20"/>
          <p:cNvSpPr/>
          <p:nvPr/>
        </p:nvSpPr>
        <p:spPr>
          <a:xfrm>
            <a:off x="455400" y="2743200"/>
            <a:ext cx="9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N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utside pla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533520" y="595440"/>
            <a:ext cx="8109000" cy="61862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7944840" y="662940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eeder and distribution cab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712800" y="1066680"/>
            <a:ext cx="7440480" cy="51498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52560" y="6335640"/>
            <a:ext cx="900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eder cable becoming all-fiber. Some distribution is fiber, more plann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tropolitan area networks (MAN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 is public network that bridges LAN and WAN, typically spanning 5 to 50 k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ro area Ethernet becoming dominan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mple for customer, extends Ethernet L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rier technology sophisticated but available, reliable, fairly low c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ns over carrier fiber optic networ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red across business u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ity options: encryption or physical sepa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 connected to open Internet or consum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ng LANs (sites) within a metro 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orage area networks (SA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 many sites to one WAN point of presence (PO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deo, voice, graphics: bursty, high bandwidth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tro area Ether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gabit Ethernet (1,000 Mb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tible with Gigabit Ethernet L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 to 50 km range per 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Ethernet switches needed per metro 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ailable in many metro areas; can buy fractions of G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G Ethernet (10 Gbps or 10,000 Mb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most completely compatible with slower Ether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sentially compatible with SO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G Ethernet is close to OC-192, and protocols m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ge up to 40 k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coming available; can buy fractions of bandwid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th options have technology (“tags”) to allow network to sc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thernet switches discover all de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 Ethernet can have 100,000s of de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3-12-01T15:51:30Z</cp:lastPrinted>
  <dcterms:modified xsi:type="dcterms:W3CDTF">2013-12-01T16:27:19Z</dcterms:modified>
  <cp:revision>255</cp:revision>
  <dc:subject/>
  <dc:title>1.264 Lecture 5</dc:title>
</cp:coreProperties>
</file>