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68D9-4FE5-43F6-B979-3BD86B81B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8FDE-8463-4FAB-B2E5-EECCE6FB75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357C-8AD9-46A0-9A7E-CC9A1382DD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1783-0FCF-4F1A-B1CF-345D6DB7CC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C8F3-978F-43CC-9AA4-433190F2A4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382E-2531-43C3-9D21-6D518C13D9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776E-A6FD-461E-B542-6EC6B6BE81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D2F4-9CB8-4892-AFD0-8576E4C76D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27A6-D04E-40A7-B8AC-EB82ED3F80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AD29-7174-4A76-B93A-F6BF6F8AB9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D92F-9ED4-4091-8B3E-3C707DC8D6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CF3A-2E27-476A-A0EE-1405557D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95F1-F67E-4A10-A6EA-8066172C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1858-6F86-4AD6-82EB-36851D33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6E58-2AAE-4458-9758-D0F8B434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469D-9012-4F29-84B3-6991C01C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21FA-B8E0-462C-BC95-27429EC1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A714-62E0-4E7A-8646-FDC14EB0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8BE7-2DA0-4E6E-A056-BD0E7841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B36F-7D46-4469-BAF8-CEF00A4E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6FCC-0B57-4DDF-A4B4-23CDED95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D85A-534E-4ED0-AFF0-4C847454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5DE4-B33B-429D-A9C8-CDE4AD28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8E73-20F1-4A4A-823C-92FB68916FB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5800" y="5719680"/>
            <a:ext cx="518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ext class: Anderson chapter 4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physical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rmaceutical anti-counterfei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ufacturer places bar code or RFID tag on each drug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e scans bar code or RFID tag to verify authenticity with manufacturer serv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 has 800 number to call to verify serial nu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possib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think like a crimi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physical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rmaceutical anti-counterfei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bar code or RFID tag on drug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e scans to verif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 has 800 number to call to verify serial nu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 bar code or RFID tag and place on counterfeit item, sell it before the real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up fake Web site and 800 number that will verify anything.  Alter instructions to stores or consum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store can be compromised, even more attacks are possible.  Store can fail to check, falsify record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upply chain and transportation increasingly involved in anti-counterfeiting and other securit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are versions of replay, man in the middle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cryp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ncryp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the process of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ing information (referred to a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laintex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a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lgorith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often called a cipher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it unreadable to anyon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ept those possessing special knowledge, usually referred to 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ke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sult of the process is encrypted information, 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iphertex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verse process, i.e. to make the encrypted information readable again, is referred to a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cryp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(i.e. to make it unencrypted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ocol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cesses are called protocols. They addres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 and authentication of 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s and authorization of ro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unting for resources used by princip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ding non-repudi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 and invalid actions taken by principals, including attackers, e.g.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 in the middle attac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lay attacks, and other issues with freshness/stalen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mpering with network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ersonation, extortion, physical theft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r organization has significant assets, you must protect against sophisticated/tailored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ocol notation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 -&gt; G : T, {T, N}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ken T used to enter garage G  (T and G ar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rincipal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ken (e.g. like EZ Pass) transmits its serial number 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 transmits its serial number T and a number used only once (nonce) N, encrypted with its key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ce assures that message i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res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not a repla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nce can be sequential, random, or third party challeng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ume nonce is sequential in this protoco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known by both T and 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king garage server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ds 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s up the corresponding key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its datab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iphers {T, N}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s that the message includes T, and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s that N has not been seen before or has expected val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flaws in garage protocol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ribe whether it is possible to hav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 in the middl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ial of servic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 (obtain) the ke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attacks that you can imagin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nk like a criminal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flaws in garage protocol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ribe whether it is possible to hav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 in the middl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Have a rogue reader before garage entrance that reads all EZ Pass units seen.  Copy the tag’s message to the reader onto another unit. Use that one to enter garag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ial of servic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Break the reader, cut its power, etc. Gate will be left 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Since each message has nonc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 the ke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Attacker Z can go into garage with rogue reader and interrogate an EZ Pass unit repeatedly. Z knows part of the message is the sequential number and part is the fixed key. Z can infer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enough (N, N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pai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attacks that you can imagine? (Easiest one!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Attacker can break into car and steal EZ Pass un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challenge and respon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hicle anti-theft system as exa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hicle key inserted into steering loc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 key has serial number, which is its identifi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 management unit sends random number challenge to car key using short range radi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 key computes response by encrypting the random number challenge and also sends car key identifi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 management unit decrypts, reads response and verifies it matches the challenge, and car key serial nbr corr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rcise: write out the protocol using the notation conventions from the last slid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(engine)-&gt;____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(car key) -&gt;___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(engine)-&gt; C (car key): 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-&gt; E : {C, N}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 the car key must send its identifi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must verify that C is valid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 can often be predicted somewhat because the engine controller is simple (e.g., black hat intercepts N and knows next N is based on i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cing black hat to find C makes break-in significantly hard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 and engine management unit must be matched at time of manufacture; engine management unit must know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protocol is between a key and the engine. Since the user has the key, the key and engine are only in proximity when the user is too.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key must be in the ignition for the protocol to start. This also makes the protocol better: contact rather than contactless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factors make man in the middle attacks harder, but not impossibl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llenge respon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very common approach but has been broken repeated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dom numbers often not very random and can be grabbed or guessed by thie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s also vulnerable to man-in-the-midd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lt;-&gt; B &lt;-&gt; 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 can masquerade as C, passing A’s requests to C and sending C’s responses to A.  After (fraudulent) authentication, B gains ac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king garage exampl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lack hat has reader, masquerades as garage reader, interrogates card, gets its serial number T, (N,T)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lays it to real reader, gets response back, enters gar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ial of service attack: jam radio frequency so car owner can’t lock car when lea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11-14T15:16:28Z</cp:lastPrinted>
  <dcterms:modified xsi:type="dcterms:W3CDTF">2013-11-07T23:22:11Z</dcterms:modified>
  <cp:revision>191</cp:revision>
  <dc:subject/>
  <dc:title>1.264 Lecture 5</dc:title>
</cp:coreProperties>
</file>